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31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6.wmf" ContentType="image/x-wmf"/>
  <Override PartName="/ppt/media/image11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37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8720" y="7444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E65213-7DBF-47E8-8985-969E89519A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Номер слайда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2F2D66-BFFF-4D6A-9908-98B591496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Номер слайда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F79C14-101B-4CD9-B769-D56131E6E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FCF80D-696D-4374-AC4A-830613F98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62F4DCC-52F2-43AE-9705-707F24611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31B4E0F-6339-4B97-B0E2-5F2D57311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EA3-A44A-4036-8E91-BAD15737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672-F48F-4975-8179-AB34D252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32C9A-EC94-418A-B30A-68E6C7AF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6B2CB-A64E-4647-BD1A-53E65B5A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FD948-D2C2-4A84-821A-C4A49341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26C67-CA8C-4AF7-89A8-62D2DF85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B329A-591E-44ED-A2E8-3B83FFB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923AD-5509-4950-AF9F-57D394B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895B3-5521-4177-94BF-5C3BA59C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3A84-5BB7-46C9-BB6F-267B20A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2AEA6-15E8-488A-BF1B-49A3B188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E4A5C-3DD1-41C8-966B-6285E3CA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F8C-DBE6-47EE-9AFC-35C28173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163F8-773A-43F3-8F79-626528AD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5443-A5CC-4E52-8D63-BEE9A23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C30BB-144B-43D4-A249-71BB618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9AE21-F1AE-4EEE-9C08-F3495ACF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36E28-1736-4E14-B3F1-DE86E2F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6CADD-C791-45C2-A0CB-A6E1F1B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3CBB3-7B7F-4FD6-8E02-B1D5977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FE912-BC16-424E-8AC5-3614C2F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AEF6C-F123-44C2-9FAC-8E51BB8A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27F3A-763C-4708-872E-38B32B20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502-B5D4-4C98-AFEB-BC22B24E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BBBEB-CECE-4CB5-84B8-F2545518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A3C4-1648-49AE-B14F-4EF0C1F5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86050-E939-4C84-9C0F-E2140C8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E3991-EA73-49B5-8C00-1427FBFB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004B8-35B1-4526-BB1E-54B45C2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9071-D890-46A6-8BC0-0F2339C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12952-EBDA-4FC1-BA55-D5D1053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351D5-6EC7-45AA-8583-1E20B75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281A8-6992-47D6-B27A-AA4766D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C9B6C-4AD1-484F-9F5F-6D818B9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81F8-8DF4-42E0-826C-B1C4D1BE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C8B90-5FFD-4C78-AF8E-58FD336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6BAB2-551B-4460-8B88-80C5C175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F8D85-1E44-424E-8125-4148A2EA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91B6A-2B56-44FC-A8AD-2FBA0DC6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AAEC3-36A3-4764-A968-BF46841E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DFDB2-7BDE-4329-BE4D-66EF071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B40EA-4F3A-452E-BDEC-F39CD45E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54E39-3D7B-4770-9D08-B8B6CF5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064D5-F05D-4FC2-970B-35F6F5E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0A7EA-BDFB-40E1-8009-2CEB8D0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6012-B0D7-4A39-B3E5-614E7010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5C003-3699-4674-8B90-2BB4621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0A29F-C957-4975-9E7B-53C0FCE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A248B-CC8D-43CF-9537-441A6F2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69D73-3D88-4237-A2B4-C9A20532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EC488-57A9-41E7-A5E7-BF82D258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2BBB-2511-45DA-B451-0AEB3251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6897-4A76-43ED-B909-85336CBC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BFEF-6F01-4134-9B7C-0805D7BE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39C8-8A90-4D77-84EE-1DCB056E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D9BF-DDA2-4D25-8F39-F1A5B6F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772-0DAC-4FC0-BE4A-2455566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5C39-1ABF-4D7F-BC83-7453BB6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018A-1277-4D20-B303-E387394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91F-64CB-47E9-AB2C-1FF8CA30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2AFF-A882-4F3A-8500-11E6D571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3191-9F12-4A89-894D-97B5FF01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0BEF-35F8-4989-92F7-AD605D9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70C4-17A7-42E4-AC62-6F0A48A9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A4CA-FBBE-4BE7-824B-9D497BA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1155-C47C-45AF-99CA-C033A17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C087-A0E7-4269-9208-6E9DFFE6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0F0-D65C-423A-AE06-17BAAB6F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CD85-2453-4F82-8AA7-2ACDDDD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0539-42A2-4326-9192-B08F059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BA43-62B5-4CF0-9732-A6F92FBD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B02E-5406-40CB-8C37-A48A2FC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DF96-FF56-44AA-9534-1ACC594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C62A-0EB4-4C4E-A1E4-724E6798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DF1C-97A2-4316-82D3-58470C87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EFD6-F398-4835-BA88-34A552A8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3D7D-BCD8-4415-B570-53C05750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BD54-1E06-4103-AD5F-E485CC97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06E-4CF6-443C-8385-30CB5D5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8C09-5B9B-4237-B018-F3EF00B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7E60-5FA3-4C66-9D42-C980E5DB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C057-D487-440C-8137-302978A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F8DB-1BF5-4C99-A1B4-5F1574B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38D9-5CAA-4969-AC74-65C46F3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FC1A-CA22-4382-B62B-E5A8A6C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BF2F-B9E9-4F94-A355-7F704B8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00F0-3E84-4D23-9A1D-B3E767CC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8DBC2-3A1D-4520-98DF-9DB40176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F00B-1BB3-474F-9339-0AE64246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5E9-53DF-45CA-BF4E-E51FBCF0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9465-B836-487D-90ED-E346EFC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FAB0-F169-4F78-AD06-AF38222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351D-5F9B-4441-A7E3-9F82E60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F56C-A5F0-4A88-8D5A-801A91ED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F911-1E19-4CCC-A1D0-B19F8BA7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B8E26-10C4-44AF-9F1C-E49C5B2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EB3D2-F447-4518-A43D-CCC65E3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B57B-04B9-473F-9AFF-913D46D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F4E2-BC6B-4BFB-BD55-11DC1FE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CF7A-8D39-4030-86AE-B346B126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E1A-414D-4D9E-A32F-435CCC0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E541-EF9C-472A-BD2B-35DA31D1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3DB9-F61F-46B6-99A3-AFA578E1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9DEB-C15E-4524-A555-AADA274B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24B3-2175-4CAA-AD64-D1641B5A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BD16-1DC8-49EE-A184-BFA6DD7D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3BF0B-B0B0-4D71-913F-6D254A1E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8A7C-95F3-4243-A384-4C87120A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11447-D9CB-43E7-8D18-17B88F7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E42D4-CD10-4163-B35D-C5567722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701E8-45EB-4638-9845-F78D38A8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BB7-C8CF-4E46-BA48-18D699E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94FDA-9588-48C8-A6D3-4A042E7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C42F-A4A9-4B28-8180-4E7248B3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59AD-E0F1-4393-953C-86EBDA76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CD33-EDE9-4BC5-980C-5122C2A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56F9-E708-4623-8E7F-3E7936A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41A3-F9DA-4B2C-9280-1C99DEF3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C0766-AD31-4F45-82AB-1BA79FB7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3A05-AADA-442E-AF6A-4FC4ED03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1E269-7856-4730-8B57-8504F5E5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E2E0-C37E-432D-B409-81F5A4C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B75-8E63-4AEA-89F6-BA1DA6B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81ECB-4CE1-4754-8D44-F91ACE3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D3916-D2FC-463D-B47E-38B3435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5D41-9C7A-4F2B-98AD-CDBD7F83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C9B9-6D44-4165-9382-82418AEF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B23B-3FA6-4C02-ACF4-DBC8580F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8AA3-8F4A-4788-9CC3-394E50CD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7528-3FEB-4CB3-B6B0-6622973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0FB92-BCAE-4EE0-B0D6-904553C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B002-BFD3-490E-9453-78903B44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C955C-4EAF-454C-A35E-5406EA69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0F3-20BB-496A-AD6D-5EE15965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8A683-71EC-4534-B98C-F14147F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45BC-01EF-4028-9231-C3B91BF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3FF4-C24C-4C3C-BD5D-24B8694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CB57-01B1-49BA-82DD-3CAE731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6F4C0-942F-4E25-9EC8-9277BCC8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D279-3D4D-4BE9-9C00-3AC8EBC9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8E8BA-0A08-4D38-B22C-517FCA3C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9A3B5-3D7A-4330-9E2B-7582CC65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1FB79-6220-4504-9EE7-F1ED6E3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D88CA-203B-4427-A373-00044CF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0A44-BC1F-4365-97E5-40CCFBDB8A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5F2-41F2-40BE-B988-1F022ECF0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C462-ABD0-43E5-8D13-2CCDF8B91F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0128-B30C-48EA-9E38-798A23FFA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F1A-61B9-473C-BC0C-84CC4EBB96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D17-5078-4B0A-96F1-08CC52599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FD97-A85E-466F-89A3-6E23A7A31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B15B-8D9B-4BCD-9346-412166C7F7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3005-29F1-49AC-890B-638A62465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9DAE-8E4C-4F7F-94CA-77B0D369F7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4D4A-BB65-4538-9C10-5BA1A82A4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3834-10D0-42DD-8E85-9661ED212C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A863-FFF2-4FDE-BAD2-98F8154F9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0EA0-AC10-42C9-ACEE-9C9A43720C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5DE-168A-4718-8E60-9B684FD73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A83B-D78E-436D-BA7B-0350318DB8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484E-C1AC-49A4-B4A3-B4E4E006D0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182-6078-4E06-A215-37E5ECEFA8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3DC-9F69-43CA-A3AF-152865BD5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D7CC-6199-45F8-BA76-EACAAEEAF3F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6C7-6087-42CA-9328-829399177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5AE5-5830-47AC-96B7-101E1D6D42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368C-175C-4BE4-B411-06AAAA528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33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50004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 ИТОГАХ РАБОТЫ ОРГАН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ЕДЕРАЛЬНОГО КАЗНАЧЕЙСТВА ПО РЕСПУБЛИКЕ КАЛМЫКИЯ ЗА 2016 ГОД И ЗАДАЧАХ НА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5364000" y="4581360"/>
            <a:ext cx="352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ститель руководителя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.Б. Дорджи-Горя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000080" y="2858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е Федерального казначейства по Республике Калмы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C:\Documents and Settings\2315\Рабочий стол\Презентации Р.Е\Человечки\event-image-poster.jpg"/>
          <p:cNvPicPr/>
          <p:nvPr/>
        </p:nvPicPr>
        <p:blipFill>
          <a:blip r:embed="rId1"/>
          <a:stretch/>
        </p:blipFill>
        <p:spPr>
          <a:xfrm>
            <a:off x="857160" y="4071960"/>
            <a:ext cx="2214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5113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Calibri"/>
              </a:rPr>
              <a:t>Внешняя оценка деятельности </a:t>
            </a:r>
            <a:br>
              <a:rPr sz="2000"/>
            </a:br>
            <a:r>
              <a:rPr b="1" i="1" lang="ru-RU" sz="2000" spc="-1" strike="noStrike">
                <a:solidFill>
                  <a:srgbClr val="558ed5"/>
                </a:solidFill>
                <a:latin typeface="Calibri"/>
              </a:rPr>
              <a:t>Управления за 2016 год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701028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572F-DCFF-4236-9037-F8C308960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611280" y="90792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Aharoni"/>
              </a:rPr>
              <a:t>Направлено 135 запро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haroni"/>
              </a:rPr>
              <a:t>8 - РБС, ГВФ и МФ Р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haroni"/>
              </a:rPr>
              <a:t>13 - Р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haroni"/>
              </a:rPr>
              <a:t>114 – ГМО и С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haroni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haroni"/>
              </a:rPr>
              <a:t>«Полностью удовлетвор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6624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Государственные информационные системы</a:t>
            </a:r>
            <a:br>
              <a:rPr sz="2400"/>
            </a:b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85075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ИС  «Электронный бюджет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ИС в сфере закуп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йт ГМУ, государственная информационная система о государственных муниципальных платежах - ГИС ГМП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государственная автоматизированная система «Управление»-ГАС«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687564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DF2-F6D8-4223-974F-A44DB88DE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68000" y="115560"/>
            <a:ext cx="5759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 «Управление»</a:t>
            </a: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70246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786-4D9E-4D6F-8F87-B3B9863DE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Объект 4" descr=""/>
          <p:cNvPicPr/>
          <p:nvPr/>
        </p:nvPicPr>
        <p:blipFill>
          <a:blip r:embed="rId1"/>
          <a:stretch/>
        </p:blipFill>
        <p:spPr>
          <a:xfrm>
            <a:off x="469800" y="126828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6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143000" y="214200"/>
            <a:ext cx="69372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6804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Государственная информационная система о государственных и муниципальных платеж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одзаголовок 2"/>
          <p:cNvSpPr/>
          <p:nvPr/>
        </p:nvSpPr>
        <p:spPr>
          <a:xfrm>
            <a:off x="568440" y="1268280"/>
            <a:ext cx="808668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ерез главного администратора начислений (ГАН) УРЭП РК зарегистрировано участников ГИС ГМП – 434, в том чис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1 АН республиканского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03 АН местных бюдж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ступ к промышленной среде имеют 43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1 АН республиканского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03 АН местных бюдж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1"/>
          <p:cNvSpPr/>
          <p:nvPr/>
        </p:nvSpPr>
        <p:spPr>
          <a:xfrm>
            <a:off x="701208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3F4-8D42-4861-9B36-84A04CBE2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611280" y="170028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200000"/>
              </a:lnSpc>
              <a:buClr>
                <a:srgbClr val="558ed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Дорожная карта осуществления мероприятий и подготовке документов, необходимых для передачи Межрегиональным филиалам ФКУ «ЦОКР» автотранспортных средств, находящихся на балансе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200000"/>
              </a:lnSpc>
              <a:buClr>
                <a:srgbClr val="558ed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Дорожная карта организации работы Федерального казначейства и учреждения «Центр по обеспечению деятельности казначейства России» по передаче и исполнению обеспечивающих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971640" y="44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Мероприятия по передаче ФКУ «ЦОКР» полномочий Управления по осуществлению обеспечивающих функций по главе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омер слайда 54"/>
          <p:cNvSpPr/>
          <p:nvPr/>
        </p:nvSpPr>
        <p:spPr>
          <a:xfrm>
            <a:off x="70102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Object 6" descr=""/>
          <p:cNvPicPr/>
          <p:nvPr/>
        </p:nvPicPr>
        <p:blipFill>
          <a:blip r:embed="rId1"/>
          <a:stretch/>
        </p:blipFill>
        <p:spPr>
          <a:xfrm>
            <a:off x="0" y="1052640"/>
            <a:ext cx="8907480" cy="532116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7"/>
          <p:cNvSpPr/>
          <p:nvPr/>
        </p:nvSpPr>
        <p:spPr>
          <a:xfrm>
            <a:off x="1116000" y="260280"/>
            <a:ext cx="655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Cambria"/>
              </a:rPr>
              <a:t>Итоги судебной работы Управления за 201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8532720" y="623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3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1C3E-7DF3-49BF-B355-F3F930990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Объект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1042920" y="15732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mbria"/>
              </a:rPr>
              <a:t>Правовое сопровождение деятельности  Управления                        </a:t>
            </a:r>
            <a:r>
              <a:rPr b="1" lang="ru-RU" sz="1200" spc="-1" strike="noStrike">
                <a:solidFill>
                  <a:srgbClr val="376092"/>
                </a:solidFill>
                <a:latin typeface="Arial"/>
              </a:rPr>
              <a:t>(правовой экспертизе в 2016 году подлежало 12678 документ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701028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99960" y="907920"/>
            <a:ext cx="85647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мероприятие, посвященное 105- летию со дня рождения писателя, драматурга, публициста Басангова Баатра Бадмаевича (04.01.1911-25.04.1944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роведение межведомственного турнира по мини-футболу памяти В.А.Синельников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турнир по настольному теннису с участием сотрудников Управл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роведение акции «Твори добро!» (оказание благотворительной помощи дому ребенка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рганизация регулярных спортивных тренирово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рганизация коллективного отдыха сотрудников УФК по Республике Калмык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роведение благотворительной акции «Казначейский Дед Мороз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участие в соревнованиях Калмыцкой республиканской организации ОГО ВФСО «Динамо»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конкурс «Автоледи УФК по Республике Калмыкия - 2015» среди сотрудниц Управления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роведение самопрезентации молодых сотрудников Управл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корпоративное мероприятия на территории ДОЛ «Сайгачонок» «Золотая осень», приуроченного к 575-летию калмыцкого героического эпоса «Джангар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Участие в подготовке новогоднего веч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лично-командное первенство по быстрым шахматам среди мужчин и женщин Калмыцкой республиканской организации «Динамо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партакиада среди мужчин Калмыцкой республиканской организации «Динамо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женская спартакиада Калмыцкой республиканской организации «Динамо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ервенство Калмыцкой республиканской организации ОГО ВФСО «Динамо» по легкой атлетик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ервенство Калмыцкой республиканской организации ОГО ВФСО «Динамо» по мини-футбол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благотворительное мероприятия в преддверии празднования 71-й годовщины со Дня Победы в Великой Отечественной войн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убботник на территории Центрального Хурула  Республики Калмыкия «Золотая обитель Будды Шакьямуни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 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амятно-мемориальное мероприятие с возложением цветов и венков к «Вечному огню» и участие в общественной акции «Бессмертный полк»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•</a:t>
            </a:r>
            <a:r>
              <a:rPr b="1" lang="ru-RU" sz="13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«Парад дружбы народов России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539640" y="333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бществен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Номер слайда 1"/>
          <p:cNvSpPr/>
          <p:nvPr/>
        </p:nvSpPr>
        <p:spPr>
          <a:xfrm>
            <a:off x="7010280" y="6175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D1DF-4123-4709-B315-D66725320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"/>
          <p:cNvSpPr/>
          <p:nvPr/>
        </p:nvSpPr>
        <p:spPr>
          <a:xfrm>
            <a:off x="181080" y="981000"/>
            <a:ext cx="842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Федеральный орган исполнительной власти, осуществляющий правоприменительные функции по кассовому обслуживанию исполнения бюджетов бюджетной системы Российской Федерации, финансовые органы субъектов Российской Федерации и муниципальных образований, органы управления государственными внебюджетными фондами осуществляют контроль 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1) соответствием информации об объеме финансового обеспечения, включенной в планы закупок, информации об объеме финансового обеспечения для осуществления закупок, утвержденном и доведенном до заказч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2) соответствием информации об идентификационных кодах закупок и об объеме финансового обеспечения для осуществления данных закупок, содержащей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а) в планах-графиках, информации, содержащейся в планах закуп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б) в извещениях об осуществлении закупок, в документации о закупках, информации, содержащейся в планах-график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в) в протоколах определения поставщиков (подрядчиков, исполнителей), информации, содержащейся в документации о закупк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г) в условиях проектов контрактов, направляемых участникам закупок, с которыми заключаются контракты, информации, содержащейся в протоколах определения поставщиков (подрядчиков, исполнителе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Open Sans Condensed Light"/>
                <a:ea typeface="Open Sans Condensed Light"/>
              </a:rPr>
              <a:t>д) в реестре контрактов, заключенных заказчиками, условиям контра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Заголовок 8"/>
          <p:cNvSpPr/>
          <p:nvPr/>
        </p:nvSpPr>
        <p:spPr>
          <a:xfrm>
            <a:off x="763560" y="258120"/>
            <a:ext cx="78422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Open Sans Condensed Light"/>
                <a:ea typeface="Open Sans Condensed Light"/>
              </a:rPr>
              <a:t>Новые полномочия Федерального Казначейства России в сфере зак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Скругленный прямоугольник 28"/>
          <p:cNvGrpSpPr/>
          <p:nvPr/>
        </p:nvGrpSpPr>
        <p:grpSpPr>
          <a:xfrm>
            <a:off x="353880" y="4840200"/>
            <a:ext cx="8595000" cy="1755720"/>
            <a:chOff x="353880" y="4840200"/>
            <a:chExt cx="8595000" cy="1755720"/>
          </a:xfrm>
        </p:grpSpPr>
        <p:pic>
          <p:nvPicPr>
            <p:cNvPr id="571" name="Скругленный 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353880" y="4840200"/>
              <a:ext cx="8595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438120" y="4900680"/>
              <a:ext cx="842184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Скругленный прямоугольник 33"/>
          <p:cNvSpPr/>
          <p:nvPr/>
        </p:nvSpPr>
        <p:spPr>
          <a:xfrm flipV="1">
            <a:off x="1279440" y="5312160"/>
            <a:ext cx="6585120" cy="1150920"/>
          </a:xfrm>
          <a:prstGeom prst="roundRect">
            <a:avLst>
              <a:gd name="adj" fmla="val 660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Скругленный прямоугольник 21"/>
          <p:cNvGrpSpPr/>
          <p:nvPr/>
        </p:nvGrpSpPr>
        <p:grpSpPr>
          <a:xfrm>
            <a:off x="353880" y="981000"/>
            <a:ext cx="8595000" cy="3915000"/>
            <a:chOff x="353880" y="981000"/>
            <a:chExt cx="8595000" cy="3915000"/>
          </a:xfrm>
        </p:grpSpPr>
        <p:pic>
          <p:nvPicPr>
            <p:cNvPr id="575" name="Скругленный прямоугольник 21" descr=""/>
            <p:cNvPicPr/>
            <p:nvPr/>
          </p:nvPicPr>
          <p:blipFill>
            <a:blip r:embed="rId2"/>
            <a:stretch/>
          </p:blipFill>
          <p:spPr>
            <a:xfrm>
              <a:off x="353880" y="981000"/>
              <a:ext cx="859500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479520" y="1085760"/>
              <a:ext cx="83390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Скругленный прямоугольник 26"/>
          <p:cNvSpPr/>
          <p:nvPr/>
        </p:nvSpPr>
        <p:spPr>
          <a:xfrm>
            <a:off x="1279440" y="3121200"/>
            <a:ext cx="6585120" cy="1644480"/>
          </a:xfrm>
          <a:prstGeom prst="roundRect">
            <a:avLst>
              <a:gd name="adj" fmla="val 660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Скругленный прямоугольник 25"/>
          <p:cNvSpPr/>
          <p:nvPr/>
        </p:nvSpPr>
        <p:spPr>
          <a:xfrm>
            <a:off x="1279440" y="1577880"/>
            <a:ext cx="6585120" cy="1444680"/>
          </a:xfrm>
          <a:prstGeom prst="roundRect">
            <a:avLst>
              <a:gd name="adj" fmla="val 660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"/>
          <p:cNvPicPr/>
          <p:nvPr/>
        </p:nvPicPr>
        <p:blipFill>
          <a:blip r:embed="rId3"/>
          <a:stretch/>
        </p:blipFill>
        <p:spPr>
          <a:xfrm>
            <a:off x="-11160" y="0"/>
            <a:ext cx="9153720" cy="971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"/>
          <p:cNvPicPr/>
          <p:nvPr/>
        </p:nvPicPr>
        <p:blipFill>
          <a:blip r:embed="rId4"/>
          <a:stretch/>
        </p:blipFill>
        <p:spPr>
          <a:xfrm>
            <a:off x="0" y="6568920"/>
            <a:ext cx="9150480" cy="306720"/>
          </a:xfrm>
          <a:prstGeom prst="rect">
            <a:avLst/>
          </a:prstGeom>
          <a:ln w="0">
            <a:noFill/>
          </a:ln>
        </p:spPr>
      </p:pic>
      <p:sp>
        <p:nvSpPr>
          <p:cNvPr id="581" name="Прямоугольник 3"/>
          <p:cNvSpPr/>
          <p:nvPr/>
        </p:nvSpPr>
        <p:spPr>
          <a:xfrm>
            <a:off x="0" y="190440"/>
            <a:ext cx="9144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троль  в сфере закупок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ч.5 ст.99 Федерального Закона № 4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10"/>
          <p:cNvSpPr/>
          <p:nvPr/>
        </p:nvSpPr>
        <p:spPr>
          <a:xfrm>
            <a:off x="406440" y="1165320"/>
            <a:ext cx="833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троль осуществляемый УФК по Республике Калмы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1"/>
          <p:cNvSpPr/>
          <p:nvPr/>
        </p:nvSpPr>
        <p:spPr>
          <a:xfrm>
            <a:off x="1496880" y="1697040"/>
            <a:ext cx="554040" cy="549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1969920" y="1747800"/>
            <a:ext cx="1470240" cy="411120"/>
          </a:xfrm>
          <a:prstGeom prst="rect">
            <a:avLst/>
          </a:prstGeom>
          <a:solidFill>
            <a:srgbClr val="ffe8d1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Ф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17"/>
          <p:cNvSpPr/>
          <p:nvPr/>
        </p:nvSpPr>
        <p:spPr>
          <a:xfrm>
            <a:off x="5892840" y="1663560"/>
            <a:ext cx="555480" cy="5828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8"/>
          <p:cNvSpPr/>
          <p:nvPr/>
        </p:nvSpPr>
        <p:spPr>
          <a:xfrm>
            <a:off x="6388200" y="1762200"/>
            <a:ext cx="1218960" cy="37296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У, Ф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19"/>
          <p:cNvSpPr/>
          <p:nvPr/>
        </p:nvSpPr>
        <p:spPr>
          <a:xfrm>
            <a:off x="3983040" y="1697040"/>
            <a:ext cx="554040" cy="549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20"/>
          <p:cNvSpPr/>
          <p:nvPr/>
        </p:nvSpPr>
        <p:spPr>
          <a:xfrm>
            <a:off x="4468680" y="1782720"/>
            <a:ext cx="1028880" cy="37620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2"/>
          <p:cNvSpPr/>
          <p:nvPr/>
        </p:nvSpPr>
        <p:spPr>
          <a:xfrm flipH="1">
            <a:off x="3953880" y="3567240"/>
            <a:ext cx="564840" cy="5824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23"/>
          <p:cNvSpPr/>
          <p:nvPr/>
        </p:nvSpPr>
        <p:spPr>
          <a:xfrm>
            <a:off x="4433760" y="3664080"/>
            <a:ext cx="1270080" cy="37440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24"/>
          <p:cNvSpPr/>
          <p:nvPr/>
        </p:nvSpPr>
        <p:spPr>
          <a:xfrm>
            <a:off x="1496880" y="2503440"/>
            <a:ext cx="5954760" cy="37476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9 заказчиков федераль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27"/>
          <p:cNvSpPr/>
          <p:nvPr/>
        </p:nvSpPr>
        <p:spPr>
          <a:xfrm>
            <a:off x="1536840" y="4237200"/>
            <a:ext cx="5956200" cy="37440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5 заказчиков муниципального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"/>
          <p:cNvSpPr/>
          <p:nvPr/>
        </p:nvSpPr>
        <p:spPr>
          <a:xfrm>
            <a:off x="1589040" y="3201840"/>
            <a:ext cx="65833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заключенных Соглаш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29"/>
          <p:cNvSpPr/>
          <p:nvPr/>
        </p:nvSpPr>
        <p:spPr>
          <a:xfrm>
            <a:off x="482760" y="4921200"/>
            <a:ext cx="8332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троль осуществляемый Министерством финансов Республики Калмы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0"/>
          <p:cNvSpPr/>
          <p:nvPr/>
        </p:nvSpPr>
        <p:spPr>
          <a:xfrm flipH="1">
            <a:off x="3994200" y="5372280"/>
            <a:ext cx="566640" cy="5824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31"/>
          <p:cNvSpPr/>
          <p:nvPr/>
        </p:nvSpPr>
        <p:spPr>
          <a:xfrm>
            <a:off x="4475160" y="5470560"/>
            <a:ext cx="1268280" cy="37296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32"/>
          <p:cNvSpPr/>
          <p:nvPr/>
        </p:nvSpPr>
        <p:spPr>
          <a:xfrm>
            <a:off x="1577880" y="6000840"/>
            <a:ext cx="5954760" cy="374400"/>
          </a:xfrm>
          <a:prstGeom prst="rect">
            <a:avLst/>
          </a:prstGeom>
          <a:solidFill>
            <a:srgbClr val="ffe8d1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9 заказчиков республиканского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Номер слайда 2"/>
          <p:cNvSpPr/>
          <p:nvPr/>
        </p:nvSpPr>
        <p:spPr>
          <a:xfrm>
            <a:off x="7015320" y="6308640"/>
            <a:ext cx="213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65F4-B2CC-4663-A57C-271FE9E5A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5"/>
          <p:cNvSpPr/>
          <p:nvPr/>
        </p:nvSpPr>
        <p:spPr>
          <a:xfrm>
            <a:off x="6993000" y="6276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9640" y="134136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беспечить кассовое обслуживание субъектов сектора государственн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беспечение казначейского сопровождения государственных контрактов, договоров (соглаш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беспечить содействие эффективному управлению финансовыми ресурсами госуда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формировать единое информационное пространство финансовой деятельности публично-правовых образований Р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Усовершенствовать систему казначейских платеж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овершенствование механизма исполнения судебных актов и решений налоговых орга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ормирование единой информационной среды в Р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беспечить надежность функционирования Казначейства России и устойчивость казначейской систем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1619280" y="260280"/>
            <a:ext cx="6408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сновные мероприятия на 2016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о реализации Стратегической карты Казначейств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04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адачи по централизации функций 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по ведению бюджетного учета и формированию отчетности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 для федерального бюджета </a:t>
            </a: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468360" y="1773360"/>
            <a:ext cx="813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Arial"/>
              </a:rPr>
              <a:t>по обеспечению централизованного бухгалтерского учета бюджетных и денежных обязательств, бюджетных ассигнований и лимитов бюджетных обязательств получателей средств федераль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Arial"/>
              </a:rPr>
              <a:t>по обеспечению бухгалтерского учета всех операций, осуществляемых в электронном бюджете получателями средств федерального бюджета, включая учет дебиторской и кредиторской задолжен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Arial"/>
              </a:rPr>
              <a:t>по подготовке к проведению в 2018 году эксперимента по осуществлению централизованного бухгалтерского учета и формированию отчетности за отдельных получателей средств федерального 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8496360" y="6157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6a6a6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Прямоугольник 20"/>
          <p:cNvGrpSpPr/>
          <p:nvPr/>
        </p:nvGrpSpPr>
        <p:grpSpPr>
          <a:xfrm>
            <a:off x="4565520" y="2114640"/>
            <a:ext cx="1890720" cy="3932280"/>
            <a:chOff x="4565520" y="2114640"/>
            <a:chExt cx="1890720" cy="3932280"/>
          </a:xfrm>
        </p:grpSpPr>
        <p:pic>
          <p:nvPicPr>
            <p:cNvPr id="603" name="Прямоугольник 20" descr=""/>
            <p:cNvPicPr/>
            <p:nvPr/>
          </p:nvPicPr>
          <p:blipFill>
            <a:blip r:embed="rId1"/>
            <a:stretch/>
          </p:blipFill>
          <p:spPr>
            <a:xfrm>
              <a:off x="4565520" y="2114640"/>
              <a:ext cx="189072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581360" y="2131920"/>
              <a:ext cx="1860840" cy="38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7200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TextBox 3"/>
          <p:cNvSpPr/>
          <p:nvPr/>
        </p:nvSpPr>
        <p:spPr>
          <a:xfrm>
            <a:off x="1447920" y="26352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Open Sans Condensed"/>
              </a:rPr>
              <a:t>РАЗВИТИЕ ЕДИНОЙ ОБЛАЧНОЙ ИНФРАСТРУКТУРЫ КАЗНАЧЕЙСТВ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4"/>
          <p:cNvSpPr/>
          <p:nvPr/>
        </p:nvSpPr>
        <p:spPr>
          <a:xfrm>
            <a:off x="7105680" y="933480"/>
            <a:ext cx="1787400" cy="649080"/>
          </a:xfrm>
          <a:prstGeom prst="rect">
            <a:avLst/>
          </a:prstGeom>
          <a:solidFill>
            <a:srgbClr val="4d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Open Sans Condensed"/>
                <a:ea typeface="Arial"/>
              </a:rPr>
              <a:t>ЕОИ в циф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5"/>
          <p:cNvSpPr/>
          <p:nvPr/>
        </p:nvSpPr>
        <p:spPr>
          <a:xfrm>
            <a:off x="6684840" y="1557360"/>
            <a:ext cx="2333880" cy="4491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48"/>
          <p:cNvSpPr/>
          <p:nvPr/>
        </p:nvSpPr>
        <p:spPr>
          <a:xfrm>
            <a:off x="6559560" y="1596960"/>
            <a:ext cx="25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95959"/>
                </a:solidFill>
                <a:latin typeface="Open Sans Condensed"/>
              </a:rPr>
              <a:t>Уже сейчас инфраструктура ЕОИ насчитывае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8"/>
          <p:cNvSpPr/>
          <p:nvPr/>
        </p:nvSpPr>
        <p:spPr>
          <a:xfrm>
            <a:off x="6754680" y="2082960"/>
            <a:ext cx="893880" cy="291960"/>
          </a:xfrm>
          <a:prstGeom prst="rect">
            <a:avLst/>
          </a:prstGeom>
          <a:solidFill>
            <a:srgbClr val="4d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 Condensed"/>
                <a:ea typeface="Arial"/>
              </a:rPr>
              <a:t>&gt; 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9"/>
          <p:cNvSpPr/>
          <p:nvPr/>
        </p:nvSpPr>
        <p:spPr>
          <a:xfrm>
            <a:off x="6750000" y="2460600"/>
            <a:ext cx="885960" cy="291960"/>
          </a:xfrm>
          <a:prstGeom prst="rect">
            <a:avLst/>
          </a:prstGeom>
          <a:solidFill>
            <a:srgbClr val="4d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 Condensed"/>
                <a:ea typeface="Arial"/>
              </a:rPr>
              <a:t>&gt; 2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0"/>
          <p:cNvSpPr/>
          <p:nvPr/>
        </p:nvSpPr>
        <p:spPr>
          <a:xfrm>
            <a:off x="6702480" y="2870280"/>
            <a:ext cx="893880" cy="291960"/>
          </a:xfrm>
          <a:prstGeom prst="rect">
            <a:avLst/>
          </a:prstGeom>
          <a:solidFill>
            <a:srgbClr val="4d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 Condensed"/>
                <a:ea typeface="Arial"/>
              </a:rPr>
              <a:t>&gt; 8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1"/>
          <p:cNvSpPr/>
          <p:nvPr/>
        </p:nvSpPr>
        <p:spPr>
          <a:xfrm>
            <a:off x="6759720" y="3241800"/>
            <a:ext cx="836640" cy="291960"/>
          </a:xfrm>
          <a:prstGeom prst="rect">
            <a:avLst/>
          </a:prstGeom>
          <a:solidFill>
            <a:srgbClr val="4d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 Condensed"/>
                <a:ea typeface="Arial"/>
              </a:rPr>
              <a:t>7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48"/>
          <p:cNvSpPr/>
          <p:nvPr/>
        </p:nvSpPr>
        <p:spPr>
          <a:xfrm>
            <a:off x="7596360" y="2108160"/>
            <a:ext cx="13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Open Sans Condensed Light"/>
              </a:rPr>
              <a:t>стоек с оборуд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48"/>
          <p:cNvSpPr/>
          <p:nvPr/>
        </p:nvSpPr>
        <p:spPr>
          <a:xfrm>
            <a:off x="7175520" y="2476440"/>
            <a:ext cx="19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Open Sans Condensed Light"/>
              </a:rPr>
              <a:t>ядер </a:t>
            </a:r>
            <a:r>
              <a:rPr b="0" lang="en-US" sz="1200" spc="-1" strike="noStrike">
                <a:solidFill>
                  <a:srgbClr val="000000"/>
                </a:solidFill>
                <a:latin typeface="Open Sans Condensed Light"/>
              </a:rPr>
              <a:t>R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48"/>
          <p:cNvSpPr/>
          <p:nvPr/>
        </p:nvSpPr>
        <p:spPr>
          <a:xfrm>
            <a:off x="7596360" y="284940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Open Sans Condensed Light"/>
              </a:rPr>
              <a:t>ядер </a:t>
            </a:r>
            <a:r>
              <a:rPr b="0" lang="en-US" sz="1200" spc="-1" strike="noStrike">
                <a:solidFill>
                  <a:srgbClr val="000000"/>
                </a:solidFill>
                <a:latin typeface="Open Sans Condensed Light"/>
              </a:rPr>
              <a:t>x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48"/>
          <p:cNvSpPr/>
          <p:nvPr/>
        </p:nvSpPr>
        <p:spPr>
          <a:xfrm>
            <a:off x="7202520" y="3273480"/>
            <a:ext cx="17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Open Sans Condensed Light"/>
              </a:rPr>
              <a:t>ТБ в системе 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16"/>
          <p:cNvSpPr/>
          <p:nvPr/>
        </p:nvSpPr>
        <p:spPr>
          <a:xfrm>
            <a:off x="6804000" y="3720960"/>
            <a:ext cx="2214720" cy="649440"/>
          </a:xfrm>
          <a:prstGeom prst="rect">
            <a:avLst/>
          </a:prstGeom>
          <a:solidFill>
            <a:srgbClr val="4d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Open Sans Condensed"/>
                <a:ea typeface="Arial"/>
              </a:rPr>
              <a:t>Модернизация ГИС для размещения в ЕО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48"/>
          <p:cNvSpPr/>
          <p:nvPr/>
        </p:nvSpPr>
        <p:spPr>
          <a:xfrm>
            <a:off x="6620040" y="4457880"/>
            <a:ext cx="22730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Open Sans Condensed Light"/>
              </a:rPr>
              <a:t>Ряд эксплуатируемых ГИС работают на устаревших технология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Open Sans Condensed Light"/>
              </a:rPr>
              <a:t>В 2017 – 2019 гг. будет проведена модернизация ИТ-сервисов на основе стандартов ЕОИ, что снизит их совокупную стоимость вла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Прямоугольник 18"/>
          <p:cNvGrpSpPr/>
          <p:nvPr/>
        </p:nvGrpSpPr>
        <p:grpSpPr>
          <a:xfrm>
            <a:off x="585720" y="2114640"/>
            <a:ext cx="1852560" cy="4120920"/>
            <a:chOff x="585720" y="2114640"/>
            <a:chExt cx="1852560" cy="4120920"/>
          </a:xfrm>
        </p:grpSpPr>
        <p:pic>
          <p:nvPicPr>
            <p:cNvPr id="620" name="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585720" y="2114640"/>
              <a:ext cx="1852560" cy="41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03360" y="2131920"/>
              <a:ext cx="1820880" cy="40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7200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Прямоугольник 19"/>
          <p:cNvGrpSpPr/>
          <p:nvPr/>
        </p:nvGrpSpPr>
        <p:grpSpPr>
          <a:xfrm>
            <a:off x="2577960" y="2114640"/>
            <a:ext cx="1920960" cy="4114800"/>
            <a:chOff x="2577960" y="2114640"/>
            <a:chExt cx="1920960" cy="4114800"/>
          </a:xfrm>
        </p:grpSpPr>
        <p:pic>
          <p:nvPicPr>
            <p:cNvPr id="623" name="Прямоугольник 19" descr=""/>
            <p:cNvPicPr/>
            <p:nvPr/>
          </p:nvPicPr>
          <p:blipFill>
            <a:blip r:embed="rId3"/>
            <a:stretch/>
          </p:blipFill>
          <p:spPr>
            <a:xfrm>
              <a:off x="2577960" y="2114640"/>
              <a:ext cx="19209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2592360" y="2131920"/>
              <a:ext cx="1889280" cy="40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7200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Прямоугольник 31"/>
          <p:cNvGrpSpPr/>
          <p:nvPr/>
        </p:nvGrpSpPr>
        <p:grpSpPr>
          <a:xfrm>
            <a:off x="2408400" y="4700520"/>
            <a:ext cx="1882440" cy="584280"/>
            <a:chOff x="2408400" y="4700520"/>
            <a:chExt cx="1882440" cy="584280"/>
          </a:xfrm>
        </p:grpSpPr>
        <p:pic>
          <p:nvPicPr>
            <p:cNvPr id="626" name="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2408400" y="4700520"/>
              <a:ext cx="18824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424240" y="4714920"/>
              <a:ext cx="18507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Open Sans Condensed"/>
                  <a:ea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Равнобедренный треугольник 30"/>
          <p:cNvGrpSpPr/>
          <p:nvPr/>
        </p:nvGrpSpPr>
        <p:grpSpPr>
          <a:xfrm>
            <a:off x="2395440" y="4700520"/>
            <a:ext cx="324000" cy="573120"/>
            <a:chOff x="2395440" y="4700520"/>
            <a:chExt cx="324000" cy="573120"/>
          </a:xfrm>
        </p:grpSpPr>
        <p:pic>
          <p:nvPicPr>
            <p:cNvPr id="629" name="Равнобедренный треугольник 30" descr=""/>
            <p:cNvPicPr/>
            <p:nvPr/>
          </p:nvPicPr>
          <p:blipFill>
            <a:blip r:embed="rId5"/>
            <a:stretch/>
          </p:blipFill>
          <p:spPr>
            <a:xfrm>
              <a:off x="2395440" y="4700520"/>
              <a:ext cx="3240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 rot="5400000">
              <a:off x="2346840" y="4915440"/>
              <a:ext cx="2732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Группа 6"/>
          <p:cNvGrpSpPr/>
          <p:nvPr/>
        </p:nvGrpSpPr>
        <p:grpSpPr>
          <a:xfrm>
            <a:off x="601560" y="4713120"/>
            <a:ext cx="1989360" cy="559080"/>
            <a:chOff x="601560" y="4713120"/>
            <a:chExt cx="1989360" cy="559080"/>
          </a:xfrm>
        </p:grpSpPr>
        <p:grpSp>
          <p:nvGrpSpPr>
            <p:cNvPr id="632" name="Прямоугольник 26"/>
            <p:cNvGrpSpPr/>
            <p:nvPr/>
          </p:nvGrpSpPr>
          <p:grpSpPr>
            <a:xfrm>
              <a:off x="601560" y="4713120"/>
              <a:ext cx="1689840" cy="559080"/>
              <a:chOff x="601560" y="4713120"/>
              <a:chExt cx="1689840" cy="559080"/>
            </a:xfrm>
          </p:grpSpPr>
          <p:pic>
            <p:nvPicPr>
              <p:cNvPr id="633" name="Прямоугольник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560" y="4713120"/>
                <a:ext cx="168984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617400" y="4725720"/>
                <a:ext cx="16617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Open Sans Condensed"/>
                    <a:ea typeface="Arial"/>
                  </a:rPr>
                  <a:t>2016 го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Равнобедренный треугольник 27"/>
            <p:cNvGrpSpPr/>
            <p:nvPr/>
          </p:nvGrpSpPr>
          <p:grpSpPr>
            <a:xfrm>
              <a:off x="2267640" y="4713120"/>
              <a:ext cx="323280" cy="559080"/>
              <a:chOff x="2267640" y="4713120"/>
              <a:chExt cx="323280" cy="559080"/>
            </a:xfrm>
          </p:grpSpPr>
          <p:pic>
            <p:nvPicPr>
              <p:cNvPr id="636" name="Равнобедренный треугольник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267640" y="4713120"/>
                <a:ext cx="32328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 rot="5400000">
                <a:off x="2219760" y="4919400"/>
                <a:ext cx="2667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Прямоугольник 38"/>
          <p:cNvSpPr/>
          <p:nvPr/>
        </p:nvSpPr>
        <p:spPr>
          <a:xfrm>
            <a:off x="669960" y="3519360"/>
            <a:ext cx="458640" cy="1114560"/>
          </a:xfrm>
          <a:prstGeom prst="rect">
            <a:avLst/>
          </a:prstGeom>
          <a:solidFill>
            <a:srgbClr val="ecd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Open Sans Condensed"/>
                <a:ea typeface="Arial"/>
              </a:rPr>
              <a:t>ГОЗНА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Скругленный прямоугольник 39" descr=""/>
          <p:cNvPicPr/>
          <p:nvPr/>
        </p:nvPicPr>
        <p:blipFill>
          <a:blip r:embed="rId8"/>
          <a:stretch/>
        </p:blipFill>
        <p:spPr>
          <a:xfrm>
            <a:off x="1798560" y="4181400"/>
            <a:ext cx="523800" cy="506520"/>
          </a:xfrm>
          <a:prstGeom prst="rect">
            <a:avLst/>
          </a:prstGeom>
          <a:ln w="0">
            <a:noFill/>
          </a:ln>
        </p:spPr>
      </p:pic>
      <p:grpSp>
        <p:nvGrpSpPr>
          <p:cNvPr id="640" name="Прямоугольник 40"/>
          <p:cNvGrpSpPr/>
          <p:nvPr/>
        </p:nvGrpSpPr>
        <p:grpSpPr>
          <a:xfrm>
            <a:off x="1238400" y="3797280"/>
            <a:ext cx="487080" cy="841320"/>
            <a:chOff x="1238400" y="3797280"/>
            <a:chExt cx="487080" cy="841320"/>
          </a:xfrm>
        </p:grpSpPr>
        <p:pic>
          <p:nvPicPr>
            <p:cNvPr id="641" name="Прямоугольник 40" descr=""/>
            <p:cNvPicPr/>
            <p:nvPr/>
          </p:nvPicPr>
          <p:blipFill>
            <a:blip r:embed="rId9"/>
            <a:stretch/>
          </p:blipFill>
          <p:spPr>
            <a:xfrm>
              <a:off x="1238400" y="3797280"/>
              <a:ext cx="48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1251000" y="3813120"/>
              <a:ext cx="46044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Open Sans Condensed"/>
                  <a:ea typeface="Arial"/>
                </a:rPr>
                <a:t>РЦ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Box 41"/>
          <p:cNvSpPr/>
          <p:nvPr/>
        </p:nvSpPr>
        <p:spPr>
          <a:xfrm>
            <a:off x="700200" y="31082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153"/>
                </a:solidFill>
                <a:latin typeface="Open Sans Condensed"/>
                <a:ea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42"/>
          <p:cNvSpPr/>
          <p:nvPr/>
        </p:nvSpPr>
        <p:spPr>
          <a:xfrm>
            <a:off x="1303200" y="340056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a7bb"/>
                </a:solidFill>
                <a:latin typeface="Open Sans Condensed"/>
                <a:ea typeface="Arial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43"/>
          <p:cNvSpPr/>
          <p:nvPr/>
        </p:nvSpPr>
        <p:spPr>
          <a:xfrm>
            <a:off x="1720800" y="382752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Open Sans Condensed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44"/>
          <p:cNvSpPr/>
          <p:nvPr/>
        </p:nvSpPr>
        <p:spPr>
          <a:xfrm>
            <a:off x="2664000" y="3162240"/>
            <a:ext cx="458640" cy="1457280"/>
          </a:xfrm>
          <a:prstGeom prst="rect">
            <a:avLst/>
          </a:prstGeom>
          <a:solidFill>
            <a:srgbClr val="ecd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Open Sans Condensed"/>
                <a:ea typeface="Arial"/>
              </a:rPr>
              <a:t>ГОЗНА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Скругленный прямоугольник 45" descr=""/>
          <p:cNvPicPr/>
          <p:nvPr/>
        </p:nvPicPr>
        <p:blipFill>
          <a:blip r:embed="rId10"/>
          <a:stretch/>
        </p:blipFill>
        <p:spPr>
          <a:xfrm>
            <a:off x="3790800" y="3718080"/>
            <a:ext cx="525600" cy="890280"/>
          </a:xfrm>
          <a:prstGeom prst="rect">
            <a:avLst/>
          </a:prstGeom>
          <a:ln w="0">
            <a:noFill/>
          </a:ln>
        </p:spPr>
      </p:pic>
      <p:grpSp>
        <p:nvGrpSpPr>
          <p:cNvPr id="648" name="Прямоугольник 46"/>
          <p:cNvGrpSpPr/>
          <p:nvPr/>
        </p:nvGrpSpPr>
        <p:grpSpPr>
          <a:xfrm>
            <a:off x="3230640" y="3456000"/>
            <a:ext cx="487440" cy="1165320"/>
            <a:chOff x="3230640" y="3456000"/>
            <a:chExt cx="487440" cy="1165320"/>
          </a:xfrm>
        </p:grpSpPr>
        <p:pic>
          <p:nvPicPr>
            <p:cNvPr id="649" name="Прямоугольник 46" descr=""/>
            <p:cNvPicPr/>
            <p:nvPr/>
          </p:nvPicPr>
          <p:blipFill>
            <a:blip r:embed="rId11"/>
            <a:stretch/>
          </p:blipFill>
          <p:spPr>
            <a:xfrm>
              <a:off x="3230640" y="3456000"/>
              <a:ext cx="4874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244680" y="3468600"/>
              <a:ext cx="45900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Open Sans Condensed"/>
                  <a:ea typeface="Arial"/>
                </a:rPr>
                <a:t>РЦ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47"/>
          <p:cNvSpPr/>
          <p:nvPr/>
        </p:nvSpPr>
        <p:spPr>
          <a:xfrm>
            <a:off x="2557440" y="2735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153"/>
                </a:solidFill>
                <a:latin typeface="Open Sans Condensed"/>
                <a:ea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48"/>
          <p:cNvSpPr/>
          <p:nvPr/>
        </p:nvSpPr>
        <p:spPr>
          <a:xfrm>
            <a:off x="3168720" y="3033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a7bb"/>
                </a:solidFill>
                <a:latin typeface="Open Sans Condensed"/>
                <a:ea typeface="Arial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9"/>
          <p:cNvSpPr/>
          <p:nvPr/>
        </p:nvSpPr>
        <p:spPr>
          <a:xfrm>
            <a:off x="3706920" y="335124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Open Sans Condensed"/>
                <a:ea typeface="Arial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50"/>
          <p:cNvSpPr/>
          <p:nvPr/>
        </p:nvSpPr>
        <p:spPr>
          <a:xfrm>
            <a:off x="4680000" y="2855880"/>
            <a:ext cx="460440" cy="1736640"/>
          </a:xfrm>
          <a:prstGeom prst="rect">
            <a:avLst/>
          </a:prstGeom>
          <a:solidFill>
            <a:srgbClr val="ecd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Open Sans Condensed"/>
                <a:ea typeface="Arial"/>
              </a:rPr>
              <a:t>ГОЗНА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Скругленный прямоугольник 51" descr=""/>
          <p:cNvPicPr/>
          <p:nvPr/>
        </p:nvPicPr>
        <p:blipFill>
          <a:blip r:embed="rId12"/>
          <a:stretch/>
        </p:blipFill>
        <p:spPr>
          <a:xfrm>
            <a:off x="5803920" y="2498760"/>
            <a:ext cx="523800" cy="2097000"/>
          </a:xfrm>
          <a:prstGeom prst="rect">
            <a:avLst/>
          </a:prstGeom>
          <a:ln w="0">
            <a:noFill/>
          </a:ln>
        </p:spPr>
      </p:pic>
      <p:grpSp>
        <p:nvGrpSpPr>
          <p:cNvPr id="656" name="Прямоугольник 52"/>
          <p:cNvGrpSpPr/>
          <p:nvPr/>
        </p:nvGrpSpPr>
        <p:grpSpPr>
          <a:xfrm>
            <a:off x="5241960" y="2859120"/>
            <a:ext cx="488880" cy="1749240"/>
            <a:chOff x="5241960" y="2859120"/>
            <a:chExt cx="488880" cy="1749240"/>
          </a:xfrm>
        </p:grpSpPr>
        <p:pic>
          <p:nvPicPr>
            <p:cNvPr id="657" name="Прямоугольник 52" descr=""/>
            <p:cNvPicPr/>
            <p:nvPr/>
          </p:nvPicPr>
          <p:blipFill>
            <a:blip r:embed="rId13"/>
            <a:stretch/>
          </p:blipFill>
          <p:spPr>
            <a:xfrm>
              <a:off x="5241960" y="2859120"/>
              <a:ext cx="4888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259240" y="2873520"/>
              <a:ext cx="45900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Open Sans Condensed"/>
                  <a:ea typeface="Arial"/>
                </a:rPr>
                <a:t>РЦ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Box 53"/>
          <p:cNvSpPr/>
          <p:nvPr/>
        </p:nvSpPr>
        <p:spPr>
          <a:xfrm>
            <a:off x="4462560" y="245124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153"/>
                </a:solidFill>
                <a:latin typeface="Open Sans Condensed"/>
                <a:ea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4"/>
          <p:cNvSpPr/>
          <p:nvPr/>
        </p:nvSpPr>
        <p:spPr>
          <a:xfrm>
            <a:off x="4973760" y="2460600"/>
            <a:ext cx="8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a7bb"/>
                </a:solidFill>
                <a:latin typeface="Open Sans Condensed"/>
                <a:ea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55"/>
          <p:cNvSpPr/>
          <p:nvPr/>
        </p:nvSpPr>
        <p:spPr>
          <a:xfrm>
            <a:off x="5708520" y="209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Open Sans Condensed"/>
                <a:ea typeface="Arial"/>
              </a:rPr>
              <a:t>1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48"/>
          <p:cNvSpPr/>
          <p:nvPr/>
        </p:nvSpPr>
        <p:spPr>
          <a:xfrm>
            <a:off x="638280" y="5391000"/>
            <a:ext cx="18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Open Sans Condensed"/>
              </a:rPr>
              <a:t>ГИИС ЭБ, ЕИС, ГИС ГМП, ГАСУ, внутренние сервисы 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48"/>
          <p:cNvSpPr/>
          <p:nvPr/>
        </p:nvSpPr>
        <p:spPr>
          <a:xfrm>
            <a:off x="2629080" y="5383080"/>
            <a:ext cx="18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Open Sans Condensed"/>
              </a:rPr>
              <a:t>ГИИС ЭБ, АСФК, ЕИС, ГИС ГМП, ГАСУ, внутренние сервисы 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48"/>
          <p:cNvSpPr/>
          <p:nvPr/>
        </p:nvSpPr>
        <p:spPr>
          <a:xfrm>
            <a:off x="4581360" y="5510160"/>
            <a:ext cx="183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Open Sans Condensed"/>
              </a:rPr>
              <a:t>Все ИТ-сервисы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9"/>
          <p:cNvSpPr/>
          <p:nvPr/>
        </p:nvSpPr>
        <p:spPr>
          <a:xfrm>
            <a:off x="601560" y="1471680"/>
            <a:ext cx="27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Open Sans Condensed"/>
              </a:rPr>
              <a:t>НАРАЩИВАНИЕ МОЩНОСТЕЙ Е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60"/>
          <p:cNvSpPr/>
          <p:nvPr/>
        </p:nvSpPr>
        <p:spPr>
          <a:xfrm>
            <a:off x="4056120" y="957240"/>
            <a:ext cx="243000" cy="325440"/>
          </a:xfrm>
          <a:prstGeom prst="rect">
            <a:avLst/>
          </a:prstGeom>
          <a:solidFill>
            <a:srgbClr val="ecd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Прямоугольник 61"/>
          <p:cNvGrpSpPr/>
          <p:nvPr/>
        </p:nvGrpSpPr>
        <p:grpSpPr>
          <a:xfrm>
            <a:off x="4041720" y="1328760"/>
            <a:ext cx="274680" cy="353880"/>
            <a:chOff x="4041720" y="1328760"/>
            <a:chExt cx="274680" cy="353880"/>
          </a:xfrm>
        </p:grpSpPr>
        <p:pic>
          <p:nvPicPr>
            <p:cNvPr id="668" name="Прямоугольник 61" descr=""/>
            <p:cNvPicPr/>
            <p:nvPr/>
          </p:nvPicPr>
          <p:blipFill>
            <a:blip r:embed="rId14"/>
            <a:stretch/>
          </p:blipFill>
          <p:spPr>
            <a:xfrm>
              <a:off x="4041720" y="1328760"/>
              <a:ext cx="27468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4056120" y="1343160"/>
              <a:ext cx="243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Скругленный прямоугольник 62"/>
          <p:cNvSpPr/>
          <p:nvPr/>
        </p:nvSpPr>
        <p:spPr>
          <a:xfrm rot="5400000">
            <a:off x="4014000" y="1761120"/>
            <a:ext cx="325440" cy="244800"/>
          </a:xfrm>
          <a:prstGeom prst="roundRect">
            <a:avLst>
              <a:gd name="adj" fmla="val 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48"/>
          <p:cNvSpPr/>
          <p:nvPr/>
        </p:nvSpPr>
        <p:spPr>
          <a:xfrm>
            <a:off x="4365720" y="958680"/>
            <a:ext cx="1703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95959"/>
                </a:solidFill>
                <a:latin typeface="Open Sans Condensed"/>
              </a:rPr>
              <a:t>ЦОД ГОЗНА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48"/>
          <p:cNvSpPr/>
          <p:nvPr/>
        </p:nvSpPr>
        <p:spPr>
          <a:xfrm>
            <a:off x="4365720" y="1343160"/>
            <a:ext cx="176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95959"/>
                </a:solidFill>
                <a:latin typeface="Open Sans Condensed"/>
              </a:rPr>
              <a:t>РЦОД г. Городец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48"/>
          <p:cNvSpPr/>
          <p:nvPr/>
        </p:nvSpPr>
        <p:spPr>
          <a:xfrm>
            <a:off x="4365720" y="1736640"/>
            <a:ext cx="176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95959"/>
                </a:solidFill>
                <a:latin typeface="Open Sans Condensed"/>
              </a:rPr>
              <a:t>ФЦОД г. Дуб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2"/>
          <p:cNvSpPr/>
          <p:nvPr/>
        </p:nvSpPr>
        <p:spPr>
          <a:xfrm>
            <a:off x="7026120" y="620244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CE0E-C6C7-4533-9430-C840F4F24455}" type="slidenum">
              <a:rPr b="0" lang="ru-RU" sz="1200" spc="-1" strike="noStrike">
                <a:solidFill>
                  <a:srgbClr val="7f7f7f"/>
                </a:solidFill>
                <a:latin typeface="Open Sans Condensed Light"/>
                <a:ea typeface="Open Sans Condensed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Группа 11"/>
          <p:cNvGrpSpPr/>
          <p:nvPr/>
        </p:nvGrpSpPr>
        <p:grpSpPr>
          <a:xfrm>
            <a:off x="4406760" y="4707000"/>
            <a:ext cx="2140200" cy="573120"/>
            <a:chOff x="4406760" y="4707000"/>
            <a:chExt cx="2140200" cy="573120"/>
          </a:xfrm>
        </p:grpSpPr>
        <p:grpSp>
          <p:nvGrpSpPr>
            <p:cNvPr id="676" name="Группа 7"/>
            <p:cNvGrpSpPr/>
            <p:nvPr/>
          </p:nvGrpSpPr>
          <p:grpSpPr>
            <a:xfrm>
              <a:off x="4424040" y="4735080"/>
              <a:ext cx="2122920" cy="545040"/>
              <a:chOff x="4424040" y="4735080"/>
              <a:chExt cx="2122920" cy="545040"/>
            </a:xfrm>
          </p:grpSpPr>
          <p:grpSp>
            <p:nvGrpSpPr>
              <p:cNvPr id="677" name="Равнобедренный треугольник 37"/>
              <p:cNvGrpSpPr/>
              <p:nvPr/>
            </p:nvGrpSpPr>
            <p:grpSpPr>
              <a:xfrm>
                <a:off x="6237000" y="4735080"/>
                <a:ext cx="309960" cy="545040"/>
                <a:chOff x="6237000" y="4735080"/>
                <a:chExt cx="309960" cy="545040"/>
              </a:xfrm>
            </p:grpSpPr>
            <p:pic>
              <p:nvPicPr>
                <p:cNvPr id="678" name="Равнобедренный треугольник 3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237000" y="4735080"/>
                  <a:ext cx="309960" cy="54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"/>
                <p:cNvSpPr/>
                <p:nvPr/>
              </p:nvSpPr>
              <p:spPr>
                <a:xfrm rot="5400000">
                  <a:off x="6194520" y="4936680"/>
                  <a:ext cx="25668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7760" rIns="77760" tIns="38880" bIns="38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Прямоугольник 36"/>
              <p:cNvGrpSpPr/>
              <p:nvPr/>
            </p:nvGrpSpPr>
            <p:grpSpPr>
              <a:xfrm>
                <a:off x="4424040" y="4735080"/>
                <a:ext cx="1842840" cy="545040"/>
                <a:chOff x="4424040" y="4735080"/>
                <a:chExt cx="1842840" cy="545040"/>
              </a:xfrm>
            </p:grpSpPr>
            <p:pic>
              <p:nvPicPr>
                <p:cNvPr id="681" name="Прямоугольник 36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424040" y="4735080"/>
                  <a:ext cx="1842840" cy="54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4441320" y="4750200"/>
                  <a:ext cx="181188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7760" rIns="77760" tIns="38880" bIns="38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Open Sans Condensed"/>
                      <a:ea typeface="Arial"/>
                    </a:rPr>
                    <a:t>      </a:t>
                  </a:r>
                  <a:r>
                    <a:rPr b="1" lang="ru-RU" sz="2000" spc="-1" strike="noStrike">
                      <a:solidFill>
                        <a:srgbClr val="ffffff"/>
                      </a:solidFill>
                      <a:latin typeface="Open Sans Condensed"/>
                      <a:ea typeface="Arial"/>
                    </a:rPr>
                    <a:t>2018 – 2020 год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Равнобедренный треугольник 35"/>
            <p:cNvGrpSpPr/>
            <p:nvPr/>
          </p:nvGrpSpPr>
          <p:grpSpPr>
            <a:xfrm>
              <a:off x="4406760" y="4707000"/>
              <a:ext cx="314280" cy="572400"/>
              <a:chOff x="4406760" y="4707000"/>
              <a:chExt cx="314280" cy="572400"/>
            </a:xfrm>
          </p:grpSpPr>
          <p:pic>
            <p:nvPicPr>
              <p:cNvPr id="684" name="Равнобедренный треугольник 35" descr=""/>
              <p:cNvPicPr/>
              <p:nvPr/>
            </p:nvPicPr>
            <p:blipFill>
              <a:blip r:embed="rId17"/>
              <a:stretch/>
            </p:blipFill>
            <p:spPr>
              <a:xfrm>
                <a:off x="4406760" y="4707000"/>
                <a:ext cx="314280" cy="57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 rot="5400000">
                <a:off x="4358160" y="4921920"/>
                <a:ext cx="27252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Равнобедренный треугольник 32"/>
          <p:cNvGrpSpPr/>
          <p:nvPr/>
        </p:nvGrpSpPr>
        <p:grpSpPr>
          <a:xfrm>
            <a:off x="4260960" y="4700520"/>
            <a:ext cx="317520" cy="584280"/>
            <a:chOff x="4260960" y="4700520"/>
            <a:chExt cx="317520" cy="584280"/>
          </a:xfrm>
        </p:grpSpPr>
        <p:pic>
          <p:nvPicPr>
            <p:cNvPr id="687" name="Равнобедренный треугольник 32" descr=""/>
            <p:cNvPicPr/>
            <p:nvPr/>
          </p:nvPicPr>
          <p:blipFill>
            <a:blip r:embed="rId18"/>
            <a:stretch/>
          </p:blipFill>
          <p:spPr>
            <a:xfrm>
              <a:off x="4260960" y="4700520"/>
              <a:ext cx="3175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 rot="5400000">
              <a:off x="4205520" y="4921920"/>
              <a:ext cx="279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193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Новые типы территориальных органов ФК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90" name="TextBox 2"/>
          <p:cNvSpPr/>
          <p:nvPr/>
        </p:nvSpPr>
        <p:spPr>
          <a:xfrm>
            <a:off x="684360" y="1413000"/>
            <a:ext cx="77752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Центры работы с клиентами, которые будут непосредственно взаимодействовать с клиентами на мес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Центры специализации и компетенции, которые будут выполнять отдельные функции Федерального казначейства, имеющие централизованный характер, по всей стране и осуществлять централизованный сбор и систематизацию информации по вопросам, входящим в компетенцию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3"/>
          <p:cNvSpPr/>
          <p:nvPr/>
        </p:nvSpPr>
        <p:spPr>
          <a:xfrm>
            <a:off x="8459640" y="616572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6a6a6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395280" y="2999880"/>
            <a:ext cx="84247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sp>
        <p:nvSpPr>
          <p:cNvPr id="695" name="Номер слайда 1"/>
          <p:cNvSpPr/>
          <p:nvPr/>
        </p:nvSpPr>
        <p:spPr>
          <a:xfrm>
            <a:off x="7010280" y="630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9902-5CA8-4AA5-AC2D-E54FF9C54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Распределение поступлений между</a:t>
            </a:r>
            <a:br>
              <a:rPr sz="1800"/>
            </a:b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бюджетами бюджетной системы Российской Федерации</a:t>
            </a: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8" name="Номер слайда 15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406440" y="1125360"/>
            <a:ext cx="82090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6804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Поступило на счет № 40101 – 22 503,5  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Возвращено – 1 765,7 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Распреде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Диаграмма 6" descr=""/>
          <p:cNvPicPr/>
          <p:nvPr/>
        </p:nvPicPr>
        <p:blipFill>
          <a:blip r:embed="rId1"/>
          <a:stretch/>
        </p:blipFill>
        <p:spPr>
          <a:xfrm>
            <a:off x="755640" y="2206800"/>
            <a:ext cx="7991640" cy="38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5"/>
          <p:cNvSpPr/>
          <p:nvPr/>
        </p:nvSpPr>
        <p:spPr>
          <a:xfrm>
            <a:off x="1643040" y="1429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Количество открытых лицевых счетов по состоянию на 01 января 20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6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95280" y="1197000"/>
            <a:ext cx="8424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На 01.01.2017 </a:t>
            </a:r>
            <a:r>
              <a:rPr b="1" lang="ru-RU" sz="2200" spc="-1" strike="noStrike">
                <a:solidFill>
                  <a:srgbClr val="ff3300"/>
                </a:solidFill>
                <a:latin typeface="Calibri"/>
              </a:rPr>
              <a:t>–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208 лицевых счетов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Object 9"/>
          <p:cNvGraphicFramePr/>
          <p:nvPr/>
        </p:nvGraphicFramePr>
        <p:xfrm>
          <a:off x="252360" y="1773360"/>
          <a:ext cx="871056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773360"/>
                    <a:ext cx="8710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8"/>
          <p:cNvSpPr/>
          <p:nvPr/>
        </p:nvSpPr>
        <p:spPr>
          <a:xfrm>
            <a:off x="826920" y="189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Структура лимитов бюджетных обязатель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в разрезе разделов классификации расходов за  201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301680" y="1197000"/>
          <a:ext cx="8447040" cy="50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197000"/>
                    <a:ext cx="844704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697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Структура поступлений и кассовых расходов по </a:t>
            </a:r>
            <a:br>
              <a:rPr sz="1800"/>
            </a:br>
            <a:r>
              <a:rPr b="1" lang="ru-RU" sz="1800" spc="-1" strike="noStrike">
                <a:solidFill>
                  <a:srgbClr val="558ed5"/>
                </a:solidFill>
                <a:latin typeface="Times New Roman"/>
              </a:rPr>
              <a:t>14 лицевым счетам в разрезе ГРБС ФБ на 01.01.2017 г.</a:t>
            </a:r>
            <a:br>
              <a:rPr sz="1800"/>
            </a:br>
            <a:r>
              <a:rPr b="1" i="1" lang="ru-RU" sz="1800" spc="-1" strike="noStrike">
                <a:solidFill>
                  <a:srgbClr val="558ed5"/>
                </a:solidFill>
                <a:latin typeface="Times New Roman"/>
              </a:rPr>
              <a:t>(из федерального бюджета в республиканский бюджет)</a:t>
            </a:r>
            <a:br>
              <a:rPr sz="1800"/>
            </a:b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омер слайда 2"/>
          <p:cNvSpPr/>
          <p:nvPr/>
        </p:nvSpPr>
        <p:spPr>
          <a:xfrm>
            <a:off x="687564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6DC3-8400-4AFE-A617-CC830538C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Объект 6"/>
          <p:cNvGraphicFramePr/>
          <p:nvPr/>
        </p:nvGraphicFramePr>
        <p:xfrm>
          <a:off x="179280" y="1125360"/>
          <a:ext cx="850752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507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551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58ed5"/>
                </a:solidFill>
                <a:latin typeface="Times New Roman"/>
              </a:rPr>
              <a:t>Предоставление бюджетных кредитов на покрытие временных кассовых разрывов</a:t>
            </a:r>
            <a:endParaRPr b="1" lang="en-US" sz="25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6" name="Номер слайда 13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00040" y="1857240"/>
          <a:ext cx="8001000" cy="1214640"/>
        </p:xfrm>
        <a:graphic>
          <a:graphicData uri="http://schemas.openxmlformats.org/drawingml/2006/table">
            <a:tbl>
              <a:tblPr/>
              <a:tblGrid>
                <a:gridCol w="325440"/>
                <a:gridCol w="2077920"/>
                <a:gridCol w="2211480"/>
                <a:gridCol w="1335240"/>
                <a:gridCol w="1025280"/>
                <a:gridCol w="1025640"/>
              </a:tblGrid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юдж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лномоченный орга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и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алмык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фин Р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-621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1.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 140 т.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Эли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г. Элис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-701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1.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 037 т.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2"/>
          <p:cNvSpPr/>
          <p:nvPr/>
        </p:nvSpPr>
        <p:spPr>
          <a:xfrm>
            <a:off x="285840" y="1285920"/>
            <a:ext cx="864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Договора на предоставление бюджетных кредитов в 2016 го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214200" y="3286080"/>
            <a:ext cx="86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Бюджетный кредит предоставлен: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500040" y="3857760"/>
          <a:ext cx="7993080" cy="1793880"/>
        </p:xfrm>
        <a:graphic>
          <a:graphicData uri="http://schemas.openxmlformats.org/drawingml/2006/table">
            <a:tbl>
              <a:tblPr/>
              <a:tblGrid>
                <a:gridCol w="339840"/>
                <a:gridCol w="1995480"/>
                <a:gridCol w="1374840"/>
                <a:gridCol w="1398600"/>
                <a:gridCol w="1373040"/>
                <a:gridCol w="1511280"/>
              </a:tblGrid>
              <a:tr h="4568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полученных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по бюджетному кредиту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плаченных процентов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235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235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города Эл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Объект 1"/>
          <p:cNvGraphicFramePr/>
          <p:nvPr/>
        </p:nvGraphicFramePr>
        <p:xfrm>
          <a:off x="272880" y="1413000"/>
          <a:ext cx="867276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413000"/>
                    <a:ext cx="8672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2"/>
          <p:cNvSpPr/>
          <p:nvPr/>
        </p:nvSpPr>
        <p:spPr>
          <a:xfrm>
            <a:off x="0" y="119700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на 01.01.2017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–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  34 контрольных мероприятия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13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95280" y="0"/>
            <a:ext cx="8209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проведенных контрольных мероприятий за 201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ик 2"/>
          <p:cNvSpPr/>
          <p:nvPr/>
        </p:nvSpPr>
        <p:spPr>
          <a:xfrm>
            <a:off x="1649520" y="260280"/>
            <a:ext cx="65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Arial"/>
              </a:rPr>
              <a:t>Структура выявленных нарушений </a:t>
            </a:r>
            <a:br>
              <a:rPr sz="2000"/>
            </a:br>
            <a:r>
              <a:rPr b="1" lang="ru-RU" sz="2000" spc="-1" strike="noStrike">
                <a:solidFill>
                  <a:srgbClr val="558ed5"/>
                </a:solidFill>
                <a:latin typeface="Arial"/>
              </a:rPr>
              <a:t>по видам средств</a:t>
            </a: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13"/>
          <p:cNvSpPr/>
          <p:nvPr/>
        </p:nvSpPr>
        <p:spPr>
          <a:xfrm>
            <a:off x="70102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Object 29"/>
          <p:cNvGraphicFramePr/>
          <p:nvPr/>
        </p:nvGraphicFramePr>
        <p:xfrm>
          <a:off x="47520" y="1662120"/>
          <a:ext cx="8774280" cy="45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1662120"/>
                    <a:ext cx="877428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31"/>
          <p:cNvSpPr/>
          <p:nvPr/>
        </p:nvSpPr>
        <p:spPr>
          <a:xfrm>
            <a:off x="468360" y="1052640"/>
            <a:ext cx="3889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1"/>
          <p:cNvSpPr/>
          <p:nvPr/>
        </p:nvSpPr>
        <p:spPr>
          <a:xfrm>
            <a:off x="1258920" y="1125360"/>
            <a:ext cx="75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о выявлено нарушений 417 738,7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Дорджи-Горяев Санал Борисович</cp:lastModifiedBy>
  <cp:lastPrinted>2017-03-20T06:33:51Z</cp:lastPrinted>
  <dcterms:modified xsi:type="dcterms:W3CDTF">2017-03-20T11:40:25Z</dcterms:modified>
  <cp:revision>1449</cp:revision>
  <dc:subject/>
  <dc:title>Слайд 1</dc:title>
</cp:coreProperties>
</file>